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wmf" ContentType="image/x-wm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1835B25-F84A-4458-A741-7042B72EB8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EC8599D-AED1-41E4-B8C6-DFA64099C8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F6D9449-4F7C-4B14-8D1F-4F8437282B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65B2CF9-239C-487C-9142-795726EB7E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638BA59-CE0E-4778-B18F-FF112FDD18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56FBA33-6928-49C2-9E6E-3ACA7E23E3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A46274A-1AE7-47BF-8EB1-DB773A3555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2D1A35E-1B4C-413B-80CD-99B6B7D1CE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67654B2-833D-43B8-B590-895D323B47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1377-2046-48EF-A09B-1CDCE8BF6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2D13-15FF-4D6B-95D3-B9F6C7B00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797F-8731-4357-834C-14CC0F321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5B46-1446-4080-B0F0-D79909672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8E32-2166-4D0A-ABBE-F08816208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08BF-BD37-436C-99DC-D80B06AB8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CE1D-B244-4B78-8918-A3E731473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82A6-E679-48E2-940A-F2360019F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3496-D3EF-4D9D-8E79-91A6BAB09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19B4-4EDA-4C6C-A6B6-DB2C9C5CE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BB13-D0BE-4248-B6D2-3CD7C2965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8A34-9876-42C0-A697-D26E3798C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G-WBKGD1"/>
          <p:cNvPicPr/>
          <p:nvPr/>
        </p:nvPicPr>
        <p:blipFill>
          <a:blip r:embed="rId2"/>
          <a:srcRect l="0" t="0" r="0" b="1974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13C60-3F04-4014-A13B-85DC3054C5CC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6" name="Picture 9" descr="CGLOGO"/>
          <p:cNvPicPr/>
          <p:nvPr/>
        </p:nvPicPr>
        <p:blipFill>
          <a:blip r:embed="rId3"/>
          <a:stretch/>
        </p:blipFill>
        <p:spPr>
          <a:xfrm>
            <a:off x="7772400" y="142920"/>
            <a:ext cx="1371600" cy="131436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1" descr="IALA%20logo1"/>
          <p:cNvPicPr/>
          <p:nvPr/>
        </p:nvPicPr>
        <p:blipFill>
          <a:blip r:embed="rId4"/>
          <a:srcRect l="0" t="1749" r="831" b="875"/>
          <a:stretch/>
        </p:blipFill>
        <p:spPr>
          <a:xfrm>
            <a:off x="0" y="0"/>
            <a:ext cx="1025640" cy="15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oleObject" Target="../embeddings/oleObject2.bin"/><Relationship Id="rId7" Type="http://schemas.openxmlformats.org/officeDocument/2006/relationships/image" Target="../media/image8.wmf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990720"/>
            <a:ext cx="701064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ALA e-Navigation Committe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62120" y="251460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ll Cai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irman, IALA e-NAV Committe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. Nick 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ce Chairm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P23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20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rtrayal W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5331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e Alexander (USA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nji Fukuto (Japan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aison note to IHO on the development of Recommendations and Guidelines on e-Navigation Portrayal (output/1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5943600" y="4816440"/>
            <a:ext cx="3200400" cy="2041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scellane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380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ort and Updated Work Programme (output/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ategy elements assig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task to manage the IALA domain in IHO S-99 and S-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sues for P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58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-Navigation across IALA Committ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ulatory appro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ed in WG1 output to IMO; Recommend clo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ALA exceeding re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O concern over IALA’s role in e-NA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s and Portrayal “on the bridg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ALA Members / Sister Organizations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e-Navigation succeed without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228600"/>
            <a:ext cx="76201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-NAV1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720" y="380880"/>
            <a:ext cx="77724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104 registered attendee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13 new participants, 1 observ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19 Output papers included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raft Guideline on Procedures for the Management of the IALA Domains under the IHO Registry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iaison Notes to ANM, EEP, VTS on draft Product Specifications under S-1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4 other papers dealing with the IHO S-100 GI Registr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3 Liaison Notes to ITU-R WP5B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iaison Notes to IEC, IH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2 draft Information Papers to IM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senta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-Navigation – a vision and its practical implementation - Andy Norr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rman proposed shipboard architecture– Jan-Hendrik Oltman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-NAV U/W, Testbed portal – Thomas Christensen (DM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ALA WWA – Stephen Bennet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ALA Participation in the IHO Registry – Nick W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ALA e-NAV WG Structur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-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- P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b0f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Times New Roman"/>
              </a:rPr>
              <a:t>3-AIS Techn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b0f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Times New Roman"/>
              </a:rPr>
              <a:t>4-Commun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-Architecture Techn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6-Portray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S-100/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Object 7"/>
          <p:cNvGraphicFramePr/>
          <p:nvPr/>
        </p:nvGraphicFramePr>
        <p:xfrm>
          <a:off x="6553080" y="3733920"/>
          <a:ext cx="1676520" cy="110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3080" y="3733920"/>
                    <a:ext cx="1676520" cy="110016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61" name="Picture 4" descr="AIS"/>
          <p:cNvPicPr/>
          <p:nvPr/>
        </p:nvPicPr>
        <p:blipFill>
          <a:blip r:embed="rId3"/>
          <a:stretch/>
        </p:blipFill>
        <p:spPr>
          <a:xfrm>
            <a:off x="4419720" y="3429000"/>
            <a:ext cx="1523880" cy="1119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62" name="Picture 5" descr=""/>
          <p:cNvPicPr/>
          <p:nvPr/>
        </p:nvPicPr>
        <p:blipFill>
          <a:blip r:embed="rId4"/>
          <a:stretch/>
        </p:blipFill>
        <p:spPr>
          <a:xfrm>
            <a:off x="5867280" y="2133720"/>
            <a:ext cx="1828800" cy="1306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North Pacific heavy weather 02"/>
          <p:cNvPicPr/>
          <p:nvPr/>
        </p:nvPicPr>
        <p:blipFill>
          <a:blip r:embed="rId5"/>
          <a:stretch/>
        </p:blipFill>
        <p:spPr>
          <a:xfrm>
            <a:off x="3886200" y="1600200"/>
            <a:ext cx="1676520" cy="1144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Object 1"/>
          <p:cNvGraphicFramePr/>
          <p:nvPr/>
        </p:nvGraphicFramePr>
        <p:xfrm>
          <a:off x="4343400" y="5029200"/>
          <a:ext cx="2338560" cy="1598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Object 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343400" y="5029200"/>
                    <a:ext cx="2338560" cy="15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Picture 3" descr=""/>
          <p:cNvPicPr/>
          <p:nvPr/>
        </p:nvPicPr>
        <p:blipFill>
          <a:blip r:embed="rId8"/>
          <a:stretch/>
        </p:blipFill>
        <p:spPr>
          <a:xfrm>
            <a:off x="6934320" y="5448240"/>
            <a:ext cx="2209680" cy="14097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rations W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vid Patraiko (Nautical Institute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Mahesh Alimchandani (Australi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aison to IMO on e-NAV (output/1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aison note to ANM (output/16) outlining the e-NAV Committee’s plan for its review of the IALA NAVGU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4" descr="North Pacific heavy weather 02"/>
          <p:cNvPicPr/>
          <p:nvPr/>
        </p:nvPicPr>
        <p:blipFill>
          <a:blip r:embed="rId1"/>
          <a:stretch/>
        </p:blipFill>
        <p:spPr>
          <a:xfrm>
            <a:off x="7315200" y="5607000"/>
            <a:ext cx="1828800" cy="125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NT WG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an Grant (UK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in Day (Ireland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aison note to EEP on the proposed course content for a radionavigation module (e-NAV11/output/18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O NAV58 INF paper (output/17) on Maritime Integrated PNT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5181480" y="4952880"/>
            <a:ext cx="396252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AIS"/>
          <p:cNvPicPr/>
          <p:nvPr/>
        </p:nvPicPr>
        <p:blipFill>
          <a:blip r:embed="rId1"/>
          <a:stretch/>
        </p:blipFill>
        <p:spPr>
          <a:xfrm>
            <a:off x="6400800" y="5451480"/>
            <a:ext cx="2743200" cy="14065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S Technical W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685800"/>
            <a:ext cx="84582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lf Zetterberg (Swede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rge Arroyo (USA)  (apologi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aison Note to PAP and other Committees on the Plan for AIS and VDE (output/1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munications W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" descr="RelationshipMode_revised"/>
          <p:cNvPicPr/>
          <p:nvPr/>
        </p:nvPicPr>
        <p:blipFill>
          <a:blip r:embed="rId1"/>
          <a:stretch/>
        </p:blipFill>
        <p:spPr>
          <a:xfrm>
            <a:off x="6705720" y="5089680"/>
            <a:ext cx="2438280" cy="17683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609120"/>
            <a:ext cx="77724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ll Kautz (US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ter Blackhurst (INMARSAT) (apologi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aison notes to ITU-R WP5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Proposed changes to Recommendations ITU-R M.824-3 and ITU-R M.1176  (output/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Plan for Future VHF Data Communications (output/8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the timing of submissions of changes to ITU-R M1371-4 (output/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chitecture Technical W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2120" y="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lvl="1" marL="594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n-Hendrik Oltmann (Germany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ul Mueller (Tideland) (apologi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aft IALA Guideline on Procedures for the Management of the IALA Domains under the IHO Registry (output/1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tion paper on Draf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deline (output/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aison Note to IHO on Applications to participate in the IHO Registry (output/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tion Paper on IALA Participation in IHO Registry (output/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Object 1"/>
          <p:cNvGraphicFramePr/>
          <p:nvPr/>
        </p:nvGraphicFramePr>
        <p:xfrm>
          <a:off x="7031160" y="2743200"/>
          <a:ext cx="211284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31160" y="2743200"/>
                    <a:ext cx="211284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7T15:53:10Z</dcterms:created>
  <dc:creator>nickw</dc:creator>
  <dc:description/>
  <dc:language>en-US</dc:language>
  <cp:lastModifiedBy>William R Cairns</cp:lastModifiedBy>
  <dcterms:modified xsi:type="dcterms:W3CDTF">2012-04-16T17:13:14Z</dcterms:modified>
  <cp:revision>114</cp:revision>
  <dc:subject/>
  <dc:title>PowerPoint Presentation</dc:title>
</cp:coreProperties>
</file>